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5882-FDE3-4481-9132-35F8E8D6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D978-FB9A-44A5-A74A-2090A034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4FB0-4B3F-4C1B-919A-05D65BC7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3CF7-2C3D-4B19-A123-C7B8C8BA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049-1E70-4086-90E8-E48B967E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3C4D-D1FF-4B04-9B75-B76BFAAC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6BD8-5FA7-453B-A3E6-34F50863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8D0B-4ACC-4397-B0BF-5340158A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4CCB-532F-4810-8F67-F998610D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8F7B-4C88-4935-B4B0-8116F9D4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4ADD-7FFD-410B-A6A0-4658BCE6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78D5-4E06-48EF-AB38-D9F3892D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3F01-21B3-436B-8776-DECE96F5E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rulea Andre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a aXI-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ency FB"/>
              </a:rPr>
              <a:t>Ma numesc Petrulea Andreea,am 17 ani si sunt eleva in clasa a XI-a 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gency FB"/>
              </a:rPr>
              <a:t>Am ales acest profil deoarece nu mi-a prea placut matematica,mai tarziu mi-as dori sa devin politista sau invatatoare.Sunt o persoana prietenoasa,sociabila,modesta,in stare sa dau in orice moment o mana de aju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7T09:27:36Z</dcterms:created>
  <dc:creator> </dc:creator>
  <dc:description/>
  <dc:language>en-US</dc:language>
  <cp:lastModifiedBy> </cp:lastModifiedBy>
  <dcterms:modified xsi:type="dcterms:W3CDTF">2011-10-21T09:48:30Z</dcterms:modified>
  <cp:revision>3</cp:revision>
  <dc:subject/>
  <dc:title>Petrulea Andreea</dc:title>
</cp:coreProperties>
</file>